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9640E-4F2E-4B7A-9687-E557021C09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73D44-0D81-473F-85EA-1543D6ABBE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17AE2-5EF2-4CC1-A119-FBA11914F501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8EF6-7C69-4524-9DD6-C4E546A71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E7FB-3EBE-4C24-9B24-FFA8171A0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2C29-D95C-4F51-929F-B300A7F86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2535-AB99-4EB6-8638-FE4E76B1D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9477-7720-4DD9-9A45-BC53D2BC8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C8E6-8A9A-4367-91D0-539B4CE46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28C5-15B0-4FDF-8220-52026800F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8508-65A0-48E7-8916-7F6D7195E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7419-B4B4-44C6-B841-08BCD63DB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976D-8165-4C21-8170-AC2742A7A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1543-71D1-4248-B9B2-5A345FE11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7C7E-A231-4D45-ACB2-552D8A098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95EA6-94DB-4CDC-A8D7-9213CC02631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Lekovi 1. Hemija i dizajn leko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61B61-E717-4333-AA36-0055E0E42DE7}" type="slidenum">
              <a:rPr b="0" lang="sr-Latn-C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itle 1"/>
          <p:cNvSpPr/>
          <p:nvPr/>
        </p:nvSpPr>
        <p:spPr>
          <a:xfrm>
            <a:off x="685800" y="2514600"/>
            <a:ext cx="777240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ЛАЗНИ  МЕТА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9" descr=""/>
          <p:cNvPicPr/>
          <p:nvPr/>
        </p:nvPicPr>
        <p:blipFill>
          <a:blip r:embed="rId1"/>
          <a:stretch/>
        </p:blipFill>
        <p:spPr>
          <a:xfrm>
            <a:off x="2050920" y="349200"/>
            <a:ext cx="5172120" cy="1495440"/>
          </a:xfrm>
          <a:prstGeom prst="rect">
            <a:avLst/>
          </a:prstGeom>
          <a:ln w="0">
            <a:noFill/>
          </a:ln>
        </p:spPr>
      </p:pic>
      <p:sp>
        <p:nvSpPr>
          <p:cNvPr id="50" name="Slide Number Placeholder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666C1-3729-4F14-9CE0-0B0C7A2B4D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534520" cy="635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ксидационо стање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4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едставник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амфотеран оксид. Соли са киселинама су настанилне за разлику од соли које даје са базама (само при топљењу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+ 4HCl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(MnCl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MnCl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+ Cl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+ H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br>
              <a:rPr sz="2800"/>
            </a:b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+ Ca(OH)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CaMnO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+ H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ксидационо стање +6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ксид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и киселина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нису познати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али њене соли јесу. Најпознатија је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Добија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е редукцијом перманганата у базној средини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687CC-2A94-43A5-8170-10484EF9D68E}" type="slidenum">
              <a:rPr b="0" lang="sr-Latn-C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27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ксидационо стање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7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едствник је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стабилан и кисео оксид док је киселина стабилна само у воденом раствору.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јва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ија со је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KMnO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као изразито јако оксидационо средство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20F2B-B0ED-472F-8EE1-8DB18533AD4D}" type="slidenum">
              <a:rPr b="0" lang="sr-Latn-C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1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E9672-5E01-4968-9BEE-F756827064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9"/>
          <p:cNvSpPr/>
          <p:nvPr/>
        </p:nvSpPr>
        <p:spPr>
          <a:xfrm>
            <a:off x="2195640" y="333360"/>
            <a:ext cx="45720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IIB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8., 9.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10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5" descr=""/>
          <p:cNvPicPr/>
          <p:nvPr/>
        </p:nvPicPr>
        <p:blipFill>
          <a:blip r:embed="rId1"/>
          <a:stretch/>
        </p:blipFill>
        <p:spPr>
          <a:xfrm>
            <a:off x="755640" y="1557360"/>
            <a:ext cx="1562040" cy="37623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6" descr=""/>
          <p:cNvPicPr/>
          <p:nvPr/>
        </p:nvPicPr>
        <p:blipFill>
          <a:blip r:embed="rId2"/>
          <a:stretch/>
        </p:blipFill>
        <p:spPr>
          <a:xfrm>
            <a:off x="2700360" y="1628640"/>
            <a:ext cx="1276200" cy="14479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7" descr=""/>
          <p:cNvPicPr/>
          <p:nvPr/>
        </p:nvPicPr>
        <p:blipFill>
          <a:blip r:embed="rId3"/>
          <a:stretch/>
        </p:blipFill>
        <p:spPr>
          <a:xfrm>
            <a:off x="4284720" y="1628640"/>
            <a:ext cx="3286080" cy="13338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8" descr=""/>
          <p:cNvPicPr/>
          <p:nvPr/>
        </p:nvPicPr>
        <p:blipFill>
          <a:blip r:embed="rId4"/>
          <a:stretch/>
        </p:blipFill>
        <p:spPr>
          <a:xfrm>
            <a:off x="3276720" y="3429000"/>
            <a:ext cx="1923840" cy="219240"/>
          </a:xfrm>
          <a:prstGeom prst="rect">
            <a:avLst/>
          </a:prstGeom>
          <a:ln w="0">
            <a:noFill/>
          </a:ln>
        </p:spPr>
      </p:pic>
      <p:sp>
        <p:nvSpPr>
          <p:cNvPr id="84" name="TextBox 18"/>
          <p:cNvSpPr/>
          <p:nvPr/>
        </p:nvSpPr>
        <p:spPr>
          <a:xfrm>
            <a:off x="2627280" y="335772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9" descr=""/>
          <p:cNvPicPr/>
          <p:nvPr/>
        </p:nvPicPr>
        <p:blipFill>
          <a:blip r:embed="rId5"/>
          <a:stretch/>
        </p:blipFill>
        <p:spPr>
          <a:xfrm>
            <a:off x="4932360" y="3716280"/>
            <a:ext cx="3013200" cy="23018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1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3C082-3FE6-46F1-A96C-A3754838C0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9"/>
          <p:cNvSpPr/>
          <p:nvPr/>
        </p:nvSpPr>
        <p:spPr>
          <a:xfrm>
            <a:off x="2195640" y="333360"/>
            <a:ext cx="45720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IIB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8., 9.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10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3048120" y="3851280"/>
          <a:ext cx="3533760" cy="517680"/>
        </p:xfrm>
        <a:graphic>
          <a:graphicData uri="http://schemas.openxmlformats.org/drawingml/2006/table">
            <a:tbl>
              <a:tblPr/>
              <a:tblGrid>
                <a:gridCol w="504720"/>
                <a:gridCol w="504720"/>
                <a:gridCol w="505080"/>
                <a:gridCol w="504720"/>
                <a:gridCol w="504720"/>
                <a:gridCol w="504720"/>
                <a:gridCol w="50508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↑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↑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↑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↑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↑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↑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9" name=""/>
          <p:cNvGraphicFramePr/>
          <p:nvPr/>
        </p:nvGraphicFramePr>
        <p:xfrm>
          <a:off x="3048120" y="2022480"/>
          <a:ext cx="3533760" cy="517680"/>
        </p:xfrm>
        <a:graphic>
          <a:graphicData uri="http://schemas.openxmlformats.org/drawingml/2006/table">
            <a:tbl>
              <a:tblPr/>
              <a:tblGrid>
                <a:gridCol w="504720"/>
                <a:gridCol w="504720"/>
                <a:gridCol w="505080"/>
                <a:gridCol w="504720"/>
                <a:gridCol w="504720"/>
                <a:gridCol w="504720"/>
                <a:gridCol w="50508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↑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↑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↑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↑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↑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↑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0" name=""/>
          <p:cNvGraphicFramePr/>
          <p:nvPr/>
        </p:nvGraphicFramePr>
        <p:xfrm>
          <a:off x="3048120" y="2631960"/>
          <a:ext cx="3533760" cy="517680"/>
        </p:xfrm>
        <a:graphic>
          <a:graphicData uri="http://schemas.openxmlformats.org/drawingml/2006/table">
            <a:tbl>
              <a:tblPr/>
              <a:tblGrid>
                <a:gridCol w="504720"/>
                <a:gridCol w="504720"/>
                <a:gridCol w="505080"/>
                <a:gridCol w="504720"/>
                <a:gridCol w="504720"/>
                <a:gridCol w="504720"/>
                <a:gridCol w="50508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↑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↑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↑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↑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↑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↑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3048120" y="3241800"/>
          <a:ext cx="3533760" cy="517320"/>
        </p:xfrm>
        <a:graphic>
          <a:graphicData uri="http://schemas.openxmlformats.org/drawingml/2006/table">
            <a:tbl>
              <a:tblPr/>
              <a:tblGrid>
                <a:gridCol w="504720"/>
                <a:gridCol w="504720"/>
                <a:gridCol w="505080"/>
                <a:gridCol w="504720"/>
                <a:gridCol w="504720"/>
                <a:gridCol w="504720"/>
                <a:gridCol w="50508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↑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↑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↑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↑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↑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↑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2590920" y="1413000"/>
          <a:ext cx="3962160" cy="517320"/>
        </p:xfrm>
        <a:graphic>
          <a:graphicData uri="http://schemas.openxmlformats.org/drawingml/2006/table">
            <a:tbl>
              <a:tblPr/>
              <a:tblGrid>
                <a:gridCol w="457200"/>
                <a:gridCol w="476280"/>
                <a:gridCol w="504720"/>
                <a:gridCol w="504720"/>
                <a:gridCol w="504720"/>
                <a:gridCol w="505080"/>
                <a:gridCol w="504720"/>
                <a:gridCol w="5047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↑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↑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↑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↑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↑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↑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2590920" y="4460760"/>
          <a:ext cx="3962160" cy="517680"/>
        </p:xfrm>
        <a:graphic>
          <a:graphicData uri="http://schemas.openxmlformats.org/drawingml/2006/table">
            <a:tbl>
              <a:tblPr/>
              <a:tblGrid>
                <a:gridCol w="428400"/>
                <a:gridCol w="505080"/>
                <a:gridCol w="504720"/>
                <a:gridCol w="504720"/>
                <a:gridCol w="504720"/>
                <a:gridCol w="505080"/>
                <a:gridCol w="504720"/>
                <a:gridCol w="5047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↑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↑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↑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↑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↑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↑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2590920" y="5070600"/>
          <a:ext cx="3962160" cy="517320"/>
        </p:xfrm>
        <a:graphic>
          <a:graphicData uri="http://schemas.openxmlformats.org/drawingml/2006/table">
            <a:tbl>
              <a:tblPr/>
              <a:tblGrid>
                <a:gridCol w="428400"/>
                <a:gridCol w="505080"/>
                <a:gridCol w="504720"/>
                <a:gridCol w="504720"/>
                <a:gridCol w="504720"/>
                <a:gridCol w="505080"/>
                <a:gridCol w="504720"/>
                <a:gridCol w="5047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↑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↑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↑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↑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↑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↑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5" name="Rectangle 276"/>
          <p:cNvSpPr/>
          <p:nvPr/>
        </p:nvSpPr>
        <p:spPr>
          <a:xfrm>
            <a:off x="2594160" y="2098800"/>
            <a:ext cx="4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77"/>
          <p:cNvSpPr/>
          <p:nvPr/>
        </p:nvSpPr>
        <p:spPr>
          <a:xfrm>
            <a:off x="2593080" y="2708280"/>
            <a:ext cx="368280" cy="307080"/>
          </a:xfrm>
          <a:prstGeom prst="rect">
            <a:avLst/>
          </a:prstGeom>
          <a:solidFill>
            <a:srgbClr val="ffc000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78"/>
          <p:cNvSpPr/>
          <p:nvPr/>
        </p:nvSpPr>
        <p:spPr>
          <a:xfrm>
            <a:off x="2593800" y="3317760"/>
            <a:ext cx="398520" cy="307080"/>
          </a:xfrm>
          <a:prstGeom prst="rect">
            <a:avLst/>
          </a:prstGeom>
          <a:solidFill>
            <a:srgbClr val="ffc000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279"/>
          <p:cNvSpPr/>
          <p:nvPr/>
        </p:nvSpPr>
        <p:spPr>
          <a:xfrm>
            <a:off x="2593080" y="3927600"/>
            <a:ext cx="358920" cy="307080"/>
          </a:xfrm>
          <a:prstGeom prst="rect">
            <a:avLst/>
          </a:prstGeom>
          <a:solidFill>
            <a:srgbClr val="ffc000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1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E041B-B7E8-45BF-9A3E-A1E53B6019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9"/>
          <p:cNvSpPr/>
          <p:nvPr/>
        </p:nvSpPr>
        <p:spPr>
          <a:xfrm>
            <a:off x="2195640" y="333360"/>
            <a:ext cx="45720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IIB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8., 9.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10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2195640" y="1916280"/>
            <a:ext cx="4647960" cy="3714480"/>
          </a:xfrm>
          <a:prstGeom prst="rect">
            <a:avLst/>
          </a:prstGeom>
          <a:ln w="0">
            <a:noFill/>
          </a:ln>
        </p:spPr>
      </p:pic>
      <p:sp>
        <p:nvSpPr>
          <p:cNvPr id="102" name="TextBox 18"/>
          <p:cNvSpPr/>
          <p:nvPr/>
        </p:nvSpPr>
        <p:spPr>
          <a:xfrm>
            <a:off x="3719160" y="1268280"/>
            <a:ext cx="2259720" cy="36828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сидациона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њ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00000"/>
                </a:solidFill>
                <a:latin typeface="Arial"/>
              </a:rPr>
              <a:t>Fe, Co i 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рло важни метали.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је после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T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најраспрострањенији мета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се користи као чист метал (градјевинско гвождје). Подложан је корозији зато се често штити пресвачењем разним металима па и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N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ного више се користи као челик (легура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који лако кородира па му се додају разни метали (племенити челици) па и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39FC4-CDDA-4D95-8107-54F17CFDB1BA}" type="slidenum">
              <a:rPr b="0" lang="sr-Latn-C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686800" cy="643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јважније руде: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: пирит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FeS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хематит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магнетит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: смалтин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CoAs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и кобалтин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CoA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углавном прати руде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C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N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углавном прати руде других метала као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C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F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ксидациона стања +2, +3, +4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абилнија оксидациона стања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2 за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слободно, за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N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слободна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 у комплексимаа за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у комплексима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3 за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слободно, за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у комплекси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A5339-9709-45B8-9FAA-C573BADD9EB0}" type="slidenum">
              <a:rPr b="0" lang="sr-Latn-C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58200" cy="643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ксидационо стање +2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едставници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FeO, CoO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NiO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азни оксиди, лако реагују са киселинама дају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 соли као и хидроксиди.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Fe(II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јон је прилично јако редукционо средство, јер се лако оксидује, зато су соли нестабилне на ваздуху прелазечи у соли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Fe(III)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оли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Co(II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Ni(II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у стабилне.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мплекси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Fe(II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Ni(II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у стабилни али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Co(II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ису.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Хидроксиди су нерастворни у вод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96DDD-67CD-4AA0-A52F-237BA454EC6D}" type="slidenum">
              <a:rPr b="0" lang="sr-Latn-C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0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ксидационо стање +3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едставници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амфотеран оксид са јако израженим базним особинама, стабилан као и хидроксид, док је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азан и нестабилан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ксид, као и хидроксид и практично једина позната проста једињења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Co(III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Ni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и хидроксид не постоје већ само нестабилни комплекси.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себно су стаблна комплексна једињеа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Co(III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јона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ксидационо стање +4 је врло ретко јер је јако оксидационо стред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5B0DE-7397-4CB0-A148-4168D548E374}" type="slidenum">
              <a:rPr b="0" lang="sr-Latn-C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Прелазни метал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04920" y="17521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лементи код којих се попуњавају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f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рбитал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лементи прве прелазне серије (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Sc, Ti, V, Cr, Mn, Fe, Co, Ni, Cu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, 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Z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лементи друге прелазне серије (4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Y, Zr, Nb, Mo, Tc, Ru, Rh, Pd, Ag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Cd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лементи треће прелазне серије (4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: лантанид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лементи четврте прелазне серије (5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: а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инид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1B6C3-9BF1-43FB-8F13-4D370662F097}" type="slidenum">
              <a:rPr b="0" lang="sr-Latn-C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1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86FCE-3CD5-4FD9-BD70-3C9843FC61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9"/>
          <p:cNvSpPr/>
          <p:nvPr/>
        </p:nvSpPr>
        <p:spPr>
          <a:xfrm>
            <a:off x="2195640" y="189000"/>
            <a:ext cx="457200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B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6.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-1)d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5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0" descr=""/>
          <p:cNvPicPr/>
          <p:nvPr/>
        </p:nvPicPr>
        <p:blipFill>
          <a:blip r:embed="rId1"/>
          <a:stretch/>
        </p:blipFill>
        <p:spPr>
          <a:xfrm>
            <a:off x="684360" y="1484280"/>
            <a:ext cx="542880" cy="3743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2" descr=""/>
          <p:cNvPicPr/>
          <p:nvPr/>
        </p:nvPicPr>
        <p:blipFill>
          <a:blip r:embed="rId2"/>
          <a:stretch/>
        </p:blipFill>
        <p:spPr>
          <a:xfrm>
            <a:off x="1835280" y="1628640"/>
            <a:ext cx="1276200" cy="1467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3" descr=""/>
          <p:cNvPicPr/>
          <p:nvPr/>
        </p:nvPicPr>
        <p:blipFill>
          <a:blip r:embed="rId3"/>
          <a:stretch/>
        </p:blipFill>
        <p:spPr>
          <a:xfrm>
            <a:off x="3492360" y="1557360"/>
            <a:ext cx="3333960" cy="13525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4" descr=""/>
          <p:cNvPicPr/>
          <p:nvPr/>
        </p:nvPicPr>
        <p:blipFill>
          <a:blip r:embed="rId4"/>
          <a:stretch/>
        </p:blipFill>
        <p:spPr>
          <a:xfrm>
            <a:off x="1476360" y="3357720"/>
            <a:ext cx="1895400" cy="2664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рло важан метал. Стабилан на ваздуху, користи се као заштитна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есвлака за друге метале (хромирање) и за производњу нерђајућих (племенитих) челик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јважнија руда је хромит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FeCrO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и оловни хромат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bCrO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обија се редукцијом хромита са кокс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FeCrO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+ 4C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Fe +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Cr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+ 4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ксидациона стања до +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77C86-276B-4BFC-A77C-AFD0B9A0FF4E}" type="slidenum">
              <a:rPr b="0" lang="sr-Latn-C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5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ксидационо стање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1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стабилно стање са врло израженим редукционим особинама.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ксидационо стање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2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стабилно стање са врло израженим редукционим особинама.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ксидационо стање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3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абилно оксидационо стање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едставник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амфотеран оксид, нерастворан у води, киселинама и базама.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еагује са базама само при топљењу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66D30-366C-4786-BEE6-995D8D41EE71}" type="slidenum">
              <a:rPr b="0" lang="sr-Latn-C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43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ристи се као стабилна зелена боја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Cr(OH)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је амфотеран ходроксид који лако реагује са киселинама а са базама само при топљењу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Cr(OH)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+ 3HCl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→ CrCl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+ 3H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Cr(OH)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+ NaOH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→ NaCrO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+ 2H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стоје многобројне соли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Cr(III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јона који има изразиту склоност грађења комплексних једињења.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јважнија со је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Cr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(SO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и хромне стипсе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MCr(SO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М =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N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NH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. Користе се у кожарству и индустрији папи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15CB1-A1DD-45BC-9BC2-434BDAFDDE44}" type="slidenum">
              <a:rPr b="0" lang="sr-Latn-C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27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ксидационо стање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6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абилно оксидационо стање са јаким оксидационим особинама.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едставник је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CrO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кисели оксид.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CrO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→ H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CrO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или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Cr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CrO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+ KOH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→ K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CrO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CrO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+ H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SO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→ K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Cr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7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+ K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SO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јважнија со је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Cr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после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KMnO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најважније оксидационо сре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во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09D2B-3FA2-482B-929A-AE6691279EF4}" type="slidenum">
              <a:rPr b="0" lang="sr-Latn-C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00000"/>
                </a:solidFill>
                <a:latin typeface="Arial"/>
              </a:rPr>
              <a:t>M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рло важан метал. Стабилан на ваздуху, користи се за производњу нерђајућих (племенитих) челик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јважнија руда је пиролузит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обија се редукцијом пиролузита кокс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+ 2C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→ 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Mn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+ 2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ксидациона стања до +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34383-84EA-4A8F-8BAC-C4CFC0674BC8}" type="slidenum">
              <a:rPr b="0" lang="sr-Latn-C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426960"/>
            <a:ext cx="8229600" cy="643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ксидационо стање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1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стабилно стање са врло израженим редукционим особинама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ксидационо стање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+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абилно стање. Предстваник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базни оксид. Познате су многобројне соли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Mn(II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јона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ксидационо стање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3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стабилно оксидационо стање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а израженим оксидационим особинама.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едставник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базни оксид.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BAA8E-CBE1-487B-966E-CFD154831770}" type="slidenum">
              <a:rPr b="0" lang="sr-Latn-C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3T08:10:10Z</dcterms:created>
  <dc:creator>Srecko</dc:creator>
  <dc:description/>
  <dc:language>en-US</dc:language>
  <cp:lastModifiedBy>Ratomir Jelic</cp:lastModifiedBy>
  <dcterms:modified xsi:type="dcterms:W3CDTF">2020-09-28T13:03:17Z</dcterms:modified>
  <cp:revision>26</cp:revision>
  <dc:subject/>
  <dc:title>PRELAZNI METALI</dc:title>
</cp:coreProperties>
</file>